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bserie06.wav" ContentType="audio/x-wav"/>
  <Override PartName="/ppt/media/jetflyby2.wav" ContentType="audio/x-wav"/>
  <Override PartName="/ppt/media/caralarmoff.wav" ContentType="audio/x-wav"/>
  <Override PartName="/ppt/media/lzipup01.wav" ContentType="audio/x-wav"/>
  <Override PartName="/ppt/media/hzipup01.wav" ContentType="audio/x-wav"/>
  <Override PartName="/ppt/media/fastca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D84-27BD-4DA0-9838-6DD39F4A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554-8543-4931-A528-90FEBBF1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467-017A-4E4D-AC41-213AAEB1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1E9-27FA-4D7E-AC14-67BA7EF1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F93-1E93-44ED-BA17-BF39FCBD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7D5-79C5-4F82-A5CA-892C6D9F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9F4-AA8D-4DF6-8346-CC21CD6C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71B-08B1-42D6-86B1-4767877B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6E9F-3233-4618-AF28-0BCA62C1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706-DA19-4D44-A8D3-E6CF3CE6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E7A-3AFA-442F-8AE6-682378B5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DF5-788E-4BAE-8296-FEF47651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1F35-7BFC-48F6-8381-9CFE046C9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caralarmoff.wav"/><Relationship Id="rId12" Type="http://schemas.openxmlformats.org/officeDocument/2006/relationships/audio" Target="../media/caralarmoff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caralarmoff.wav"/><Relationship Id="rId11" Type="http://schemas.openxmlformats.org/officeDocument/2006/relationships/audio" Target="../media/caralarmoff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zipdn102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fastcar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zipdn102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fastcar.wav"/><Relationship Id="rId19" Type="http://schemas.openxmlformats.org/officeDocument/2006/relationships/audio" Target="../media/hzipup01.wav"/><Relationship Id="rId20" Type="http://schemas.openxmlformats.org/officeDocument/2006/relationships/audio" Target="../media/hzipup01.wav"/><Relationship Id="rId21" Type="http://schemas.openxmlformats.org/officeDocument/2006/relationships/audio" Target="../media/zapbig0g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hzipup01.wav"/><Relationship Id="rId25" Type="http://schemas.openxmlformats.org/officeDocument/2006/relationships/audio" Target="../media/zipdn102.wav"/><Relationship Id="rId26" Type="http://schemas.openxmlformats.org/officeDocument/2006/relationships/audio" Target="../media/bserie06.wav"/><Relationship Id="rId27" Type="http://schemas.openxmlformats.org/officeDocument/2006/relationships/audio" Target="../media/bserie06.wav"/><Relationship Id="rId28" Type="http://schemas.openxmlformats.org/officeDocument/2006/relationships/audio" Target="../media/fastcar.wav"/><Relationship Id="rId29" Type="http://schemas.openxmlformats.org/officeDocument/2006/relationships/audio" Target="../media/hzipup01.wav"/><Relationship Id="rId30" Type="http://schemas.openxmlformats.org/officeDocument/2006/relationships/audio" Target="../media/hzipup01.wav"/><Relationship Id="rId31" Type="http://schemas.openxmlformats.org/officeDocument/2006/relationships/audio" Target="../media/zapbig0g.wav"/><Relationship Id="rId32" Type="http://schemas.openxmlformats.org/officeDocument/2006/relationships/audio" Target="../media/jetflyby2.wav"/><Relationship Id="rId33" Type="http://schemas.openxmlformats.org/officeDocument/2006/relationships/audio" Target="../media/jetflyby2.wav"/><Relationship Id="rId34" Type="http://schemas.openxmlformats.org/officeDocument/2006/relationships/audio" Target="../media/hzipup01.wav"/><Relationship Id="rId35" Type="http://schemas.openxmlformats.org/officeDocument/2006/relationships/audio" Target="../media/zipdn102.wav"/><Relationship Id="rId36" Type="http://schemas.openxmlformats.org/officeDocument/2006/relationships/audio" Target="../media/bserie06.wav"/><Relationship Id="rId37" Type="http://schemas.openxmlformats.org/officeDocument/2006/relationships/audio" Target="../media/bserie06.wav"/><Relationship Id="rId38" Type="http://schemas.openxmlformats.org/officeDocument/2006/relationships/audio" Target="../media/fastcar.wav"/><Relationship Id="rId39" Type="http://schemas.openxmlformats.org/officeDocument/2006/relationships/audio" Target="../media/hzipup01.wav"/><Relationship Id="rId40" Type="http://schemas.openxmlformats.org/officeDocument/2006/relationships/audio" Target="../media/hzipup01.wav"/><Relationship Id="rId4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zipdn102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fastcar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zipdn102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fastcar.wav"/><Relationship Id="rId19" Type="http://schemas.openxmlformats.org/officeDocument/2006/relationships/audio" Target="../media/hzipup01.wav"/><Relationship Id="rId20" Type="http://schemas.openxmlformats.org/officeDocument/2006/relationships/audio" Target="../media/hzipup01.wav"/><Relationship Id="rId21" Type="http://schemas.openxmlformats.org/officeDocument/2006/relationships/audio" Target="../media/zapbig0g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hzipup01.wav"/><Relationship Id="rId25" Type="http://schemas.openxmlformats.org/officeDocument/2006/relationships/audio" Target="../media/zipdn102.wav"/><Relationship Id="rId26" Type="http://schemas.openxmlformats.org/officeDocument/2006/relationships/audio" Target="../media/bserie06.wav"/><Relationship Id="rId27" Type="http://schemas.openxmlformats.org/officeDocument/2006/relationships/audio" Target="../media/bserie06.wav"/><Relationship Id="rId28" Type="http://schemas.openxmlformats.org/officeDocument/2006/relationships/audio" Target="../media/fastcar.wav"/><Relationship Id="rId29" Type="http://schemas.openxmlformats.org/officeDocument/2006/relationships/audio" Target="../media/hzipup01.wav"/><Relationship Id="rId30" Type="http://schemas.openxmlformats.org/officeDocument/2006/relationships/audio" Target="../media/hzipup01.wav"/><Relationship Id="rId31" Type="http://schemas.openxmlformats.org/officeDocument/2006/relationships/audio" Target="../media/zapbig0g.wav"/><Relationship Id="rId32" Type="http://schemas.openxmlformats.org/officeDocument/2006/relationships/audio" Target="../media/jetflyby2.wav"/><Relationship Id="rId33" Type="http://schemas.openxmlformats.org/officeDocument/2006/relationships/audio" Target="../media/jetflyby2.wav"/><Relationship Id="rId34" Type="http://schemas.openxmlformats.org/officeDocument/2006/relationships/audio" Target="../media/hzipup01.wav"/><Relationship Id="rId35" Type="http://schemas.openxmlformats.org/officeDocument/2006/relationships/audio" Target="../media/zipdn102.wav"/><Relationship Id="rId36" Type="http://schemas.openxmlformats.org/officeDocument/2006/relationships/audio" Target="../media/bserie06.wav"/><Relationship Id="rId37" Type="http://schemas.openxmlformats.org/officeDocument/2006/relationships/audio" Target="../media/bserie06.wav"/><Relationship Id="rId38" Type="http://schemas.openxmlformats.org/officeDocument/2006/relationships/audio" Target="../media/fastcar.wav"/><Relationship Id="rId39" Type="http://schemas.openxmlformats.org/officeDocument/2006/relationships/audio" Target="../media/hzipup01.wav"/><Relationship Id="rId40" Type="http://schemas.openxmlformats.org/officeDocument/2006/relationships/audio" Target="../media/hzipup01.wav"/><Relationship Id="rId4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What is being done to the variab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68280" y="1484280"/>
                <a:ext cx="32018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308480" y="1477800"/>
                <a:ext cx="28368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630360" y="2190600"/>
            <a:ext cx="30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ubtracted by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46440" y="2252520"/>
            <a:ext cx="30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Multiplied by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49200" y="3278160"/>
                <a:ext cx="33148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116000" y="4006800"/>
            <a:ext cx="23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dded by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354560" y="2878200"/>
                <a:ext cx="228276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5076720" y="4572000"/>
            <a:ext cx="236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Divided by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45960" y="5124600"/>
                <a:ext cx="368316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41360" y="5913360"/>
            <a:ext cx="28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Multiplied by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68720" y="5897520"/>
            <a:ext cx="37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nd Subtracted by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What is being done to the variab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82680" y="1244520"/>
                <a:ext cx="22572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227480" y="1828800"/>
                <a:ext cx="34257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30360" y="2739960"/>
            <a:ext cx="30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Divided by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38600" y="2724120"/>
            <a:ext cx="30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dded by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8640" y="3567240"/>
                <a:ext cx="2762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18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644400" y="4325760"/>
            <a:ext cx="30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Multiplied by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370400" y="3603600"/>
                <a:ext cx="31654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727520" y="4311720"/>
            <a:ext cx="290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ubtracted by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45960" y="4815000"/>
                <a:ext cx="368316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09480" y="6278400"/>
            <a:ext cx="28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Divided by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2160" y="6278400"/>
            <a:ext cx="37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nd Added by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 the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36600" y="1347840"/>
                <a:ext cx="3386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862280" y="1895400"/>
                <a:ext cx="91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792520" y="1909800"/>
                <a:ext cx="91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219320" y="2514600"/>
            <a:ext cx="2789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168640" y="2660760"/>
                <a:ext cx="5824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727360" y="2665440"/>
                <a:ext cx="10825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 flipH="1" flipV="1">
            <a:off x="2406240" y="1324080"/>
            <a:ext cx="182520" cy="126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775040" y="1301760"/>
                <a:ext cx="38959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276960" y="1898640"/>
                <a:ext cx="11304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513560" y="1852560"/>
                <a:ext cx="11304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805360" y="2500200"/>
            <a:ext cx="2789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759720" y="2790720"/>
                <a:ext cx="541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313760" y="2630520"/>
                <a:ext cx="10825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 flipH="1" flipV="1">
            <a:off x="6992640" y="1309320"/>
            <a:ext cx="182520" cy="12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58920" y="4098960"/>
                <a:ext cx="36417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094200" y="4705200"/>
                <a:ext cx="912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130400" y="4703760"/>
                <a:ext cx="911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63600" y="5351400"/>
            <a:ext cx="2789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54280" y="5565600"/>
                <a:ext cx="58428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285920" y="5403960"/>
                <a:ext cx="1373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 flipH="1" flipV="1">
            <a:off x="3579480" y="4100040"/>
            <a:ext cx="182520" cy="12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716360" y="4076640"/>
                <a:ext cx="40417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2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585200" y="4672080"/>
                <a:ext cx="11682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300640" y="4670280"/>
                <a:ext cx="11667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5805360" y="5335560"/>
            <a:ext cx="2789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161120" y="5535720"/>
                <a:ext cx="6256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680080" y="5408640"/>
                <a:ext cx="14572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 flipH="1" flipV="1">
            <a:off x="8167680" y="4083120"/>
            <a:ext cx="3967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128600" y="3330720"/>
                <a:ext cx="266544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3763800" y="3703680"/>
            <a:ext cx="12240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870360" y="3439800"/>
            <a:ext cx="274680" cy="47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288040" y="3300480"/>
                <a:ext cx="32479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8578800" y="3673440"/>
            <a:ext cx="12240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685360" y="3409560"/>
            <a:ext cx="274320" cy="47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19120" y="6103800"/>
                <a:ext cx="32479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841920" y="6462720"/>
            <a:ext cx="1220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948120" y="6198840"/>
            <a:ext cx="274680" cy="47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011560" y="6103800"/>
                <a:ext cx="37069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8763120" y="6446880"/>
            <a:ext cx="1220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8869320" y="6183000"/>
            <a:ext cx="274680" cy="47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 the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47840" y="1332000"/>
                <a:ext cx="33145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62280" y="1895400"/>
                <a:ext cx="91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792520" y="1909800"/>
                <a:ext cx="91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219320" y="2514600"/>
            <a:ext cx="2789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174760" y="2760840"/>
                <a:ext cx="5414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720880" y="2575080"/>
                <a:ext cx="1373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 flipH="1" flipV="1">
            <a:off x="2406240" y="1324080"/>
            <a:ext cx="182520" cy="126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919760" y="1301760"/>
                <a:ext cx="36050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372360" y="1881360"/>
                <a:ext cx="91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23000" y="1835280"/>
                <a:ext cx="9115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805360" y="2500200"/>
            <a:ext cx="2789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699240" y="2571840"/>
                <a:ext cx="5414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202520" y="2585880"/>
                <a:ext cx="14572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 flipH="1" flipV="1">
            <a:off x="6992640" y="1309320"/>
            <a:ext cx="182520" cy="12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12920" y="4152960"/>
                <a:ext cx="3531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801880" y="4689360"/>
                <a:ext cx="11318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46280" y="4703760"/>
                <a:ext cx="11300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263600" y="5351400"/>
            <a:ext cx="2789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529000" y="5408640"/>
                <a:ext cx="5014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33640" y="5433840"/>
                <a:ext cx="13730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 flipH="1" flipV="1">
            <a:off x="3579480" y="4100040"/>
            <a:ext cx="182520" cy="12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862520" y="4076640"/>
                <a:ext cx="3749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385040" y="4689360"/>
                <a:ext cx="1204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100480" y="4687920"/>
                <a:ext cx="12034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5805360" y="5335560"/>
            <a:ext cx="2789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999120" y="5535720"/>
                <a:ext cx="7099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37080" y="5373720"/>
                <a:ext cx="14572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 flipH="1" flipV="1">
            <a:off x="8075160" y="4083120"/>
            <a:ext cx="397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836640" y="3330720"/>
                <a:ext cx="291456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763800" y="3703680"/>
            <a:ext cx="12240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870360" y="3439800"/>
            <a:ext cx="274680" cy="47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207040" y="3300480"/>
                <a:ext cx="32893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8578800" y="3673440"/>
            <a:ext cx="12240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8685360" y="3409560"/>
            <a:ext cx="274320" cy="47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60520" y="6103800"/>
                <a:ext cx="31636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841920" y="6462720"/>
            <a:ext cx="1220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948120" y="6198840"/>
            <a:ext cx="274680" cy="47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199120" y="6103800"/>
                <a:ext cx="33321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8580600" y="6446880"/>
            <a:ext cx="1220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8686800" y="6183000"/>
            <a:ext cx="274680" cy="47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2034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93, 4 – 5 #1-12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95, 4 – 6 #1-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33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9-27T13:32:29Z</dcterms:modified>
  <cp:revision>59</cp:revision>
  <dc:subject/>
  <dc:title>Slide 1</dc:title>
</cp:coreProperties>
</file>